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6A81-9F56-4EE6-808E-2829834C4899}" type="datetime">
              <a:rPr b="0" lang="en-US" sz="1200" spc="-1" strike="noStrike">
                <a:solidFill>
                  <a:srgbClr val="000000"/>
                </a:solidFill>
                <a:latin typeface="Times New Roman"/>
              </a:rPr>
              <a:t>07/29/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F2F8-6420-45BB-AD78-8E165C558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26F4-B08F-4060-9CF0-40F0AE48420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0181-1E24-48DB-904C-B8929578F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5936-745E-49AE-93A5-EA65FE8A3EF9}"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53E8-E517-420D-A892-623243813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809A-E218-4439-9877-6B51F481B13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1755-CD20-4969-B197-0451ACF68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210E-4897-4C7E-880D-CE4D338D45F1}"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B21E-A870-40FE-A40B-C8059D9D2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DFB1-8AA2-4ECC-85BE-F83E75EE79D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3D52-0104-454A-B976-13908205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FCBD-03D6-4147-9C93-9F6EF8458B56}"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2026-C481-4773-92D5-4E6DF4EC4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9067-5E3A-4B2F-B596-D91E8D6B54CF}"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4FE1-8B18-49A5-BAC3-18A3A8A6F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0798-9428-4D81-AD89-B8961C185343}"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FD8D0-038F-4BD2-81B2-FAE0EC5FD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7CC2-9541-4ED1-BB13-B5FA0307CE5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FB71-9B5A-4B5F-89EF-C1893295B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8CAF-B8C2-4C09-8757-41288E66AD2D}"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79D6-837A-4414-A4C2-49B112822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AFBF-80E4-4B5C-8DF6-9E2219F5BA15}"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22E5-7173-42CC-926B-7144E7C36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2E05-11B6-4C9B-9722-C1F1BF2499E2}" type="datetime">
              <a:rPr b="0" lang="en-US" sz="1200" spc="-1" strike="noStrike">
                <a:solidFill>
                  <a:srgbClr val="000000"/>
                </a:solidFill>
                <a:latin typeface="Arial"/>
              </a:rPr>
              <a:t>07/29/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B7BF-2548-4D40-9ED2-D14E2D046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6F9A1E-D25F-4D10-A533-E5AEF630D6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5951443-6D10-42F8-8915-43F033CE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B29E7BDB-783A-4FDC-B946-6E362F0D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737E1949-F40A-45E2-989C-DC7BCE8C4C4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A384AF9-1CEC-49D9-8268-625BE3446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5672C0E-D49A-4108-B877-971DEB9C2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7423F7C-65E1-4A0C-8F6C-3AB1935F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E0575C53-0E46-4316-8E6C-6463E4C5D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187E541-C83A-47F5-BE5B-DECC265C2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0BFF453-0EE3-441E-B3CF-7754F2425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CEEF04B-1D9C-496C-B531-64EF7A5A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3B27E24-03E0-4A27-966F-0EC8C2D0941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5EC1-47DC-4952-81B2-0E33D597404F}" type="datetime5">
              <a:rPr b="0" lang="en-US" sz="1000" spc="-1" strike="noStrike">
                <a:solidFill>
                  <a:srgbClr val="898989"/>
                </a:solidFill>
                <a:latin typeface="Times New Roman"/>
              </a:rPr>
              <a:t>Jul 29,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920D-6D9C-4814-AE2C-B6767243CC0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AB56-E4F7-4AD5-A6BB-FE3F94A7579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1F4F-A41F-4473-9C29-0EEFA3058D8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963B-F014-4187-A904-0EA8EE7A9D6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12ADC-292B-4B3F-8E76-F0ABCD87E57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E16F-BBBD-4695-98E0-33E759F24F03}"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04C8-5E21-4BF3-92C8-A54E136E369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6143-AF40-4308-BAB5-1F88964C7FC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1B25-6FF3-47D2-9533-5F124D2903D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E5D8-1AB8-4DA0-8C70-DDB040CB66FC}"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A39D-B8A8-402E-BF6F-CE53996B3F5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C6E4-E89B-4A2C-A88E-9C3FD2ADF574}"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28CC-E3FB-4959-9E6B-0C350C8A05E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0BEE-5F63-48A4-9374-10E63B3CEB8D}"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7EDB-6F1F-42C8-9A07-F71DC22052A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23D8-D95C-415D-9F0A-3E9A074A210A}"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FD1F-92C0-453D-BC1F-DE4DCA4ECAF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CB66-474A-4E7B-9890-343011267086}"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9007-F86B-4567-829E-9293BAABD01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E26D-9599-4FBB-9E43-9FB189C1772E}" type="datetime5">
              <a:rPr b="0" lang="en-US" sz="1000" spc="-1" strike="noStrike">
                <a:solidFill>
                  <a:srgbClr val="898989"/>
                </a:solidFill>
                <a:latin typeface="Arial"/>
              </a:rPr>
              <a:t>Jul 29,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3F6A-DEE1-4052-81D2-E809FA9F4B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